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067F-1432-456B-88EF-2F7569F6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257-A5F0-4380-9B25-F54F051B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593E-4BD8-4566-B35B-C3CEBC54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FAF9-1D7C-4A3C-B013-4102261C3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CC3-6D00-439B-894F-5C186405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37E-1E1B-4BBE-B5A3-0E6921B32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5E8-572D-400A-A5D1-928D07F6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B3D-8A1A-4F18-AA50-02CCD946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08B4-FD8F-4EC2-A638-E8A10378C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836-3106-49B5-9D00-4FD80738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CE4-B488-4F0B-9514-A168BF5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E28-E242-454A-861A-93EF7076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0AC-58B4-4CF5-AEF8-DC360CDD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AA9-C87E-4618-9B03-2436778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FD5-5258-4E66-B6EA-9177C515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2D9-C96A-4AD5-AA62-064676F5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3E1-BD8F-44D1-B46F-B17C2E3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ACF-55B4-454A-9E20-4595E6D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3A9-B146-4B39-9412-24B959C0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8C1-9A4D-4DD1-AB65-B4195447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04F-7E58-4E31-9D5B-A8005F4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62B5-3C72-4600-B01A-7DF4BBC3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to Plant Lima B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aterials Need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 Plastic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ting S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a 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a large spoon to fill your cup half-way with potting s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3200400" cy="28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Cj02321670000[1]"/>
          <p:cNvPicPr/>
          <p:nvPr/>
        </p:nvPicPr>
        <p:blipFill>
          <a:blip r:embed="rId2"/>
          <a:stretch/>
        </p:blipFill>
        <p:spPr>
          <a:xfrm rot="17577600">
            <a:off x="5921280" y="1240920"/>
            <a:ext cx="244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1 lima bean and place it in the c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2004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er the lima bean with potting soil leaving some room at the top so it doesn’t spi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2300400" cy="205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Cj02321670000[1]"/>
          <p:cNvPicPr/>
          <p:nvPr/>
        </p:nvPicPr>
        <p:blipFill>
          <a:blip r:embed="rId2"/>
          <a:stretch/>
        </p:blipFill>
        <p:spPr>
          <a:xfrm rot="17577600">
            <a:off x="6526800" y="2388240"/>
            <a:ext cx="1500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your fingers to press the soil down so it is packed tigh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3886200" y="4038480"/>
            <a:ext cx="2604960" cy="232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 rot="15435000">
            <a:off x="6155640" y="1540440"/>
            <a:ext cx="14428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have finished, write and draw your   observations in your Observation Journ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MCj01993670000[1]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 place your plant in front of one of the letters at the back tab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4876920" y="3962520"/>
            <a:ext cx="2590560" cy="231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21:02:49Z</dcterms:created>
  <dc:creator>Holly</dc:creator>
  <dc:description/>
  <dc:language>en-US</dc:language>
  <cp:lastModifiedBy>hcs</cp:lastModifiedBy>
  <dcterms:modified xsi:type="dcterms:W3CDTF">2010-06-17T15:02:33Z</dcterms:modified>
  <cp:revision>4</cp:revision>
  <dc:subject/>
  <dc:title>How to Plant Lima Beans</dc:title>
</cp:coreProperties>
</file>